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F4C-ED76-44C0-9D68-9D4F4C97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A77-3953-4D18-88CC-AB0A50D2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7E5-1336-4586-B039-4A44668D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7E2-C0BD-42DA-AB0A-ED0C0FA5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886-6097-455F-95FE-2CE3BA06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5A1D-DB11-4501-AC58-04F2B950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456D-026E-4480-BBEF-527BB252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510-33D0-4D4E-ADFF-31A97B44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6566-766C-41D9-957F-7606B6B5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7631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587-8BBD-4DA5-BF6F-9F162D80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A79-CCFA-444F-9F41-C802B2DA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D8D-E577-45EE-86C8-A20744D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135-28ED-4726-9650-8B00887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0EF-5330-4F17-AEDD-E0B6EF2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4B39-EEE3-4076-A0C1-D62364D4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3953-B188-4CE3-933F-344DE03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6584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02720" y="42670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954-536B-4B68-AFFA-97826592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CAF-1CA9-47A0-8F6C-8FB9CA6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205-B6A9-45BC-9730-DAF0DB99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9FF-59AE-499F-846B-6B88E75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7631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878-A32A-4443-9CA5-3D5E301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89A-75DD-4716-B325-05085B1E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2670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514-833F-4722-BFBE-322B316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2670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FEA-7842-45C9-AB25-78B6080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09000" indent="-4334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74120" indent="-463320">
              <a:spcBef>
                <a:spcPts val="1001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E09D-903D-4805-8742-F591006982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0"/>
            <a:ext cx="8737200" cy="1523880"/>
            <a:chOff x="228600" y="0"/>
            <a:chExt cx="8737200" cy="1523880"/>
          </a:xfrm>
        </p:grpSpPr>
        <p:sp>
          <p:nvSpPr>
            <p:cNvPr id="6" name="Line 8"/>
            <p:cNvSpPr/>
            <p:nvPr/>
          </p:nvSpPr>
          <p:spPr>
            <a:xfrm flipH="1">
              <a:off x="406800" y="1523880"/>
              <a:ext cx="83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6120" y="0"/>
              <a:ext cx="229680" cy="2174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28600" y="0"/>
              <a:ext cx="8504280" cy="217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28600" y="217440"/>
              <a:ext cx="8504280" cy="1328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6120" y="219240"/>
              <a:ext cx="229680" cy="129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46332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809000" indent="-433440">
              <a:spcBef>
                <a:spcPts val="10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74120" indent="-463320">
              <a:spcBef>
                <a:spcPts val="1001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274120" indent="-46332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90C-CC15-4D25-8FA1-9560F575197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ildlife and Human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c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9, sheep and goat producers lost an estimated $19.9 million due to preda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0, cattle producers’ losses to predators were worth $51.6 mill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life damages to U.S. agriculture was estimated at $944 million during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 alone accounts for more than $90 million annually in crop damages from wild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bird populations cause an estimated annual lose to U.S. agriculture of $100 mill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nflower and rice crops are a favorite of blackbirds, leading to $4 to 11 million worth of losses annu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es, blueberries and grapes have been estimated at more than $40 million in da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ring one year in Pennsylvania, white tailed deer cause crop losses totaling $30 mill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stimated $100 million in damage each year to private and public property is due to beav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spcBef>
                <a:spcPts val="9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sissippi catfish farmers lose nearly $6 million worth of fingerlings to fish eating bi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diseases that cause illness and death in humans are carried and transmitted by wildlif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onoses are diseases transmissible from animal to man.  There are over 200 such disea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used by bacteria and is transmitted by different species of black legged ticks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highest risk area for this disease is along the Mid Atlantic and northern U.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ar protective clothing when outside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876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ver all exposed sk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mosquito b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fects people, horses, and birds most common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toms include low-grade fever, rash or de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NV was first diagnosed in the U.S. in 199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me Dis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quitoes feed on infected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fected mosquitoes than bite humans and anim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if bitten by an infected mosquito, you have less than a 1% chance of inf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bonic Pla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sease that is transmitted by fleas that are infected by their host ro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toms include swollen and very tender lymph gland, accompanied by pain, fever, chills, and headach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ccurrence has been 10-20 cases per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Arial"/>
              </a:rPr>
              <a:t>What human health problems are associated with wildlife?</a:t>
            </a:r>
            <a:endParaRPr b="0" lang="en-US" sz="40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mitted by contact with the saliva of an infected animal (bite or scratch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hough human can get rabies from wild animals, the most common way to get it is from infected domestic do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high frequency sound waves to navigate and find foo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noctur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sleeps during the day and is active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901"/>
              </a:spcBef>
              <a:buClr>
                <a:srgbClr val="9999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scratch and crawl through attics and walls damaging the walls and leaving droppings beh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Arial"/>
              </a:rPr>
              <a:t>What other problems are related to wildlife?</a:t>
            </a:r>
            <a:endParaRPr b="0" lang="en-US" sz="3600" spc="-1" strike="noStrike">
              <a:solidFill>
                <a:srgbClr val="4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er and smaller mammals consume tree seedlings and other cro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rds can decimate grain and sunflower field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ators attack livestock and other domestic anim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20:13Z</dcterms:created>
  <dc:creator>Steve Sargeant</dc:creator>
  <dc:description/>
  <dc:language>en-US</dc:language>
  <cp:lastModifiedBy>Alicia Burge</cp:lastModifiedBy>
  <dcterms:modified xsi:type="dcterms:W3CDTF">2011-04-26T21:31:49Z</dcterms:modified>
  <cp:revision>23</cp:revision>
  <dc:subject/>
  <dc:title>Identifying Problems Caused by Wildlife</dc:title>
</cp:coreProperties>
</file>